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3F5-114F-4DD2-8624-40D660395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B5BE-D9FA-4D83-BC83-4BBD7AEC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C79-4BDE-46F1-BDFF-327C4D21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033D-5F67-4D50-8B8E-3D292F296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63A6-E8D8-4543-9658-A01971DD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FE31-9C14-4A4D-9B29-3A8A9B44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E82C-8FE7-4DC8-9535-C1BA7821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6AA7-7894-47AD-8726-05D5C72B0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2AF08-6303-4E20-9215-A350FF0C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656D8-7145-4ECB-95EF-2B6F2E1F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CC25-AB0F-4D16-A580-C2C40317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CC5-49F1-451E-BE6F-4CF80454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2D47-5D25-4207-B68E-A950A1E7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5897-8B08-4B02-9C7D-264DCC2F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98E5-A517-4772-8A50-97716C1C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643EB-D45D-4711-A684-DF1E0268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B928-67D4-4BF4-A0D4-6249C5E0D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12923-1DDE-49AC-B3F1-B89186D9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DEA2F-56D7-44D3-BAD7-DB2AB15B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211B0-EB9D-4859-9E00-DD1597ECB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CA4D2-1F47-4D84-8836-B5CC25AA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006B0-2FDC-4578-BF7D-75F7BB691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05FF-C19B-425D-8535-06A6BB1D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4E0FC-2A69-456C-B340-3BBDD9AE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E2CA2-075A-49E5-A398-2E860668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F5A44-E4BC-450E-88E2-E528574F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9F7CD-6F00-4A6C-A1DE-390150F7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FF205-0935-47E4-8CF7-9A5CFE55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2E172-7AF0-467E-9DAE-2ADA0C8F7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6D171-9F32-4361-B2F4-23FD6B867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1190D-3B2A-42B4-8670-7C283698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BB763-3398-46A2-B90B-E6992564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F9576-13DF-423E-9E59-808264D83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D4C-72BE-4AD9-8CC6-E0ED6777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948B8-AA03-4F99-A596-E4F8315B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6F65E-8914-4527-92D1-603A635F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6BFC1-4437-4F44-9394-111AD417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5DFB9-D5F1-47F3-8E33-F1240BCF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82D51-BFB7-4CD6-B1C1-2BFD21BE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89945-F2EF-4FE3-9924-BA304869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DACC0-357E-48FE-82CF-7C7B5532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5C0E9-8FA0-4FC3-84EF-BE7D1727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B8FCF-72F0-4B2D-878F-7A3E62E2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0F6-001B-43A3-9468-07E0B375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D51-DFAA-4FD3-8610-F265E434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91B-7C12-4D6D-8B76-55A11E5B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4717-38CC-4903-9732-1D0049D5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9BCB-F990-41C4-871D-DAE8DC4D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BD88-5011-4090-94E2-0E2521F79F8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65C7-D693-41D3-9791-69E4F023C69D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1E1F-8260-496D-9819-284139719D4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6a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3540-45A9-4CF6-A961-97D828C2B0A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201600" y="-60480"/>
            <a:ext cx="8570880" cy="32673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nstantia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dentifique a los voluntarios por adelantado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¿A quién debería reclutar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Idealmente a individuos con experiencia trabajando con niños de diferentes edad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onstantia"/>
              </a:rPr>
              <a:t>Voluntarios adultos masculinos que puedan asistir con asuntos de seguridad además de ayudar con los jovencitos mayor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ersonas dignas de confianza y emocionalmente estable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609480" y="1981080"/>
          <a:ext cx="7848720" cy="4267440"/>
        </p:xfrm>
        <a:graphic>
          <a:graphicData uri="http://schemas.openxmlformats.org/drawingml/2006/table">
            <a:tbl>
              <a:tblPr/>
              <a:tblGrid>
                <a:gridCol w="2975040"/>
                <a:gridCol w="1968480"/>
                <a:gridCol w="2905200"/>
              </a:tblGrid>
              <a:tr h="32868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Sugerencia para proporción de adulto/ni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Voluntarios Adul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#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Edades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Menos de 24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25 to 35 me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36 meses a 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6 a 9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9 a 12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13 a 16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Constantia"/>
                          <a:ea typeface="Times New Roman"/>
                        </a:rPr>
                        <a:t>*2-3 Voluntarios adicionales para asistir con el monitoreo de seguridad y para ayudar a niños con necesidades especiales, comidas, et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53352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van a haber niños quedándose a dormir en el centro de refugio por las noches, va a ser necesario que un voluntario adulto se encargue del turno de noch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Siempre y cuando </a:t>
            </a: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haya varios niños durmiendo en la misma habitación,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e</a:t>
            </a: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bería de haber un mínimo de dos voluntarios despiertos por la noche para proveer mejor seguridad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</a:rPr>
              <a:t>Si hay niños durmiendo en varias habitaciones, se van a necesitar más voluntarios. Por ejemplo, debería de haber el mínimo de un voluntario despierto a toda hora en cada habitación donde hay niños durmiendo. Nota: Estos voluntarios son adicionales a los dos voluntarios encargados del turno de noche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alibri"/>
              </a:rPr>
              <a:t>Voluntarios—Necesidades Adicionales</a:t>
            </a: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rovea orientación sobre los reglamentos de seguridad del centro de refug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arrolle un plan general de todo lo que se tiene que hacer en caso de emergenc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individuos para que estén conscientes de su función como voluntari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Enfatice las necesidades de seguridad, además de las necesidades de protección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reconocer y proveer por las necesidades básicas, físicas, y emocionales de los niñ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entrevistar a los padres de familia, con el propósito de recolectar información de contacto, además de datos básicos de cada niño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Repase/entrene a los voluntarios a tratar con situaciones de angustia y conducta disruptiva, ya sea de padres y/o niño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Preparando a los volun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gistro de niñ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sista a los padres a llenar los formularios de datos (Ver ejemplar de Formulario de Asesoramien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Apunte la información de contacto/emergencia de los padres de familia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Designe a alguien a tomar fotos (niños, padres de familia, parientes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Organice tablas de información familiar (cuando posible, una tabla por cada niño</a:t>
            </a:r>
            <a:r>
              <a:rPr b="0" lang="en-US" sz="19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aber quién puede visitar y recoger al niño del cen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86680" indent="-238680">
              <a:lnSpc>
                <a:spcPct val="9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Poner de muestra en un lugar visible para asegurar a los niños, además de facilitar su acceso a los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El centro de refugio en operación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nstantia"/>
              </a:rPr>
              <a:t>Guías generales para trabajar con niñ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niño puede estar aturdido, en estado de shock, o estar sintiendo algún nivel de falta de asociación que puede empeorar si no se le protege del estímulo que causó la experiencia traumátic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onde posible, dirija a los niños a un lugar lejos del desastre y de personas que han sobrevivido pero que están lastim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Use palabras bondadosas pero firmes para dar instruccion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Trabajando con los Niñ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Conéctarse con personas famili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Conéctese con padres de familia y/o parientes en intervalos regular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Provea información correcta  sobre el estado de sus familias, en intervalos regulares, cuando el niño lo pida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Apoyar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frezca apoyo, sea compasivo y bondadoso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Aprenda y use el nombre de los niños, especialmente cuando uno se dirige a ello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Use comunicación sin prejuicios, ya sea verbal o no verbalmente, con el niño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No importa la duración de su estadía, el uso de herramientas terapéuticas le ayuda al niño a reconectar  y reducir el nivel de su angustia causado por su pérdida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lnSpc>
                <a:spcPct val="100000"/>
              </a:lnSpc>
              <a:spcBef>
                <a:spcPts val="34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-Triaje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Observe las necesidades físicas y emocionales (ver los materiales de asesoramiento proveídos en la próxima sesión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859320" indent="-23112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Haga triaje con médicos y profesionales de salud ment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3" marL="1116000" indent="-196920">
              <a:spcBef>
                <a:spcPts val="3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nstantia"/>
              </a:rPr>
              <a:t>En términos de local y de protocolo para visitas entre niños y profesionales, arreglos deberán hacerse por avanzado (eg., en el hospital o en un local de emergencia médica)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Trabajando con los Niños—cont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3" descr=""/>
          <p:cNvPicPr/>
          <p:nvPr/>
        </p:nvPicPr>
        <p:blipFill>
          <a:blip r:embed="rId1"/>
          <a:stretch/>
        </p:blipFill>
        <p:spPr>
          <a:xfrm>
            <a:off x="523800" y="1311120"/>
            <a:ext cx="77850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23623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Después de un desastre todo niño necesita estar en un lugar seguro, lejos del peligro y de otras experiencias que le puedan causar más angust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Los padres y guardianes necesitan tener acceso a un lugar donde puedan dejar a sus niños mientras que ellos consiguen trabajo, encuentran vivienda segura, procuran comida, agua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Para poder desarrollar un ambiente seguro se requiere planificación, además de consideración de las necesidades de los niños después de un desastr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Estableciendo un medio ambiente seguro para sus niños requiere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Protección- establecer una zona/ un centro de refugio segur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Dirección- guiar a otros a  áreas lejos del desast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Conexión- estar en contacto con padres y parientes en  intervalos regula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Apoyo- proveer un medio ambiente seguro 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riaje- asesorar de manera general las necesidades físicas y emocionales, haciendo triaje con profesionales avanzados cuando apropiado (</a:t>
            </a:r>
            <a:r>
              <a:rPr b="0" i="1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2da sesión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"/>
              </a:rPr>
              <a:t>Visión general: Creando un Ambiente Seguro para su Niño Después de un  Desastre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752120"/>
            <a:ext cx="82296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La preparación es clave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 Conozca su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Considere cuántos locales se van a necesitar, eg., los suficientes para tratar a los niños de la com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594720" indent="-228600"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 Trabaje con otras iglesias y grupos comunitarios para establecer un plan de cómo crear y tener listos centros de refugios múltip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ás acceso en los vecindarios (eg. la distancia entre vecindarios tomando en cuenta transporte limit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ermiten el encuentro de grupos pequeños para niños del vecindar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50320" indent="-228960">
              <a:spcBef>
                <a:spcPts val="4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nstantia"/>
              </a:rPr>
              <a:t>Proveen mas familiaridad que un local donde los niños no se conoce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Protección- establecer una zona/ un centro de refugio seguro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dentificando sitios/locales alternativ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l local alternativo provee mejor preparación ya que uno nunca sabe cuándo va a suceder un desast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diferentes locales comunitarios (Iglesias, escuelas, centros comunitari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Identifique aéreas abiertas donde centros de refugios temporarios puedan ser instalad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Visite cada local alternativ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xplore para determinar si existen problemas de seguridad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Evite locales donde se encuentre posible peligro (eg., zonas de construcción peligrosas, la exposición de toxinas, agua profunda, lugares donde se pueda caer un niño, animales, otros elementos peligrosos, etc.)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seleccionados tienen que tener manera de ser asegurados (eg., protección contra intrusos, individuos depredadores que buscan abusar o explotar a niños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Todos los sitios deben ser accesibles (eg., proximidad a facilidades médicas y otros recursos, acceso a transporte público)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Tenga un acuerdo por adelantado que detalle la disponibilidad del local en situaciones de emergencia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Localizando los mejores sitios para las Zonas de Seguridad para Niño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088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dentifique una bodega para almacenar suministros (idealmente en el mismo local que va a ser utilizado como centro de refugio/zona de segurida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Suministros de emergencia (eg., agua, primeros auxilios, lámpara de mano, baterías, radi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mida/bocadillos (7-10 dí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latos, vasos, cucharas, tenedores, toallas de papel, etc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obij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añ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higiene personal para adolescentes (jabón de baño, cepillo de dientes, pasta de dientes, desodorante, higiene femenina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upa o lentes para niños con problemas de vis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Ropa (diferentes tamañ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500" spc="-1" strike="noStrike">
                <a:solidFill>
                  <a:srgbClr val="ffffff"/>
                </a:solidFill>
                <a:latin typeface="Calibri"/>
              </a:rPr>
              <a:t>Identificando y asegurando suministros por avanzado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Útiles escolares (papel, lápices, plumas, tiza, colores para pintar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guetes (considere darle a cada niño su propio juguete cuando lleguen al centro de refugio—un juguete que se puedan llevar cuando se vayan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Juegos de mesa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Materiales de arte (papel, pinturas de agua, pinceles, tijeras, pegamento, etc.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Libros (para diferentes edades, incluyendo adolescent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Productos de limpieza (jabón, detergent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Cámara (la habilidad de crear y mostrar fotos instantáneas de los niños y sus famil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Teléfono (considere otros medios de contacto que no requieran el uso de electricidad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Suministros cont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labore reglamentos para el centro de refugi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Adobe Fan Heiti Std B"/>
              </a:rPr>
              <a:t>-</a:t>
            </a:r>
            <a:r>
              <a:rPr b="0" lang="es-MX" sz="2000" spc="-1" strike="noStrike">
                <a:solidFill>
                  <a:srgbClr val="000000"/>
                </a:solidFill>
                <a:latin typeface="Adobe Fan Heiti Std B"/>
                <a:ea typeface="Adobe Fan Heiti Std B"/>
              </a:rPr>
              <a:t>Ejemplos de pauta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Nadie, con la excepción del adulto designado/aprobado, es permitido llevarse al niño d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Solamente los individuos con acceso autorizado son permitidos en la Zona de Seguridad para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tienen que llenar formularios de datos antes de dejar a sus niños en el centro de refug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Ambos, los padres de familia y sus niños tienen que tomarse fotos al registrar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voluntarios tienen que estar pendientes de los niños bajo su cargo en todo moment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a comunicación debe ser positiva y debe reducir conflicto y angustia, en todo momento, entre padres de familia, niños, y voluntari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-233640">
              <a:lnSpc>
                <a:spcPct val="80000"/>
              </a:lnSpc>
              <a:spcBef>
                <a:spcPts val="45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nstantia"/>
              </a:rPr>
              <a:t>Los padres de familia y parientes aprobados deben registrarse en el centro de refugio antes de poder entrar a proveerle asistencia y comodidad a sus niñ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alibri"/>
              </a:rPr>
              <a:t>Lineamientos/Reglamen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2T01:37:54Z</dcterms:created>
  <dc:creator>Carol</dc:creator>
  <dc:description/>
  <dc:language>en-US</dc:language>
  <cp:lastModifiedBy>Jeminaeh</cp:lastModifiedBy>
  <dcterms:modified xsi:type="dcterms:W3CDTF">2012-07-10T03:46:38Z</dcterms:modified>
  <cp:revision>69</cp:revision>
  <dc:subject/>
  <dc:title>Creating Child Safe Environments After a Disaster</dc:title>
</cp:coreProperties>
</file>